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117-370C-4E0E-B1C7-9B662224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A2AF-1A69-46B3-9584-0685E79C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5BA-E264-4292-B376-C5CFD366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89D-1158-437E-B64B-864EA440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AF3-8F56-418B-AA0F-1F433F8A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004C-7884-40E6-9FB3-373CC120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58B-32D6-4921-8A41-DC15420C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C34-B67C-446E-A7AE-4D7D6A9A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79C-0070-426A-90AD-E0DB30B6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502-F971-41EC-980D-8BE8BD58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334-F57F-4DE3-A016-9DC05BB7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825-A485-4FDD-B9E2-22A0E7B2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58FA-4679-41DF-A0EE-66755A5F4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PORTFOLIO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AYA PETRA I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1822320" cy="147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00720" y="4797360"/>
            <a:ext cx="2497320" cy="1550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282096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80000" y="1413000"/>
            <a:ext cx="1019160" cy="92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486560" y="0"/>
            <a:ext cx="16574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L ABOUT 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FAVROITE SPORT IS BASKETBALL ASWELL AS TENN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FAVROITE FOOD IS A ROAST AND TAKE-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ETS ARE XENA(DEAD),RUBY AND DUCH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O FOR WESTERN BULLDOGS!!!!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4941720"/>
            <a:ext cx="1877760" cy="162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24720" y="1628640"/>
            <a:ext cx="1268280" cy="10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32000" cy="938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084720" y="51436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=DAR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M=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SISTER=TAH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GE SISTER=TI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=TENA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184140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22:27:02Z</dcterms:created>
  <dc:creator>Admin</dc:creator>
  <dc:description/>
  <dc:language>en-US</dc:language>
  <cp:lastModifiedBy>Admin</cp:lastModifiedBy>
  <dcterms:modified xsi:type="dcterms:W3CDTF">2009-03-12T22:27:23Z</dcterms:modified>
  <cp:revision>4</cp:revision>
  <dc:subject/>
  <dc:title>MY PORTFOLIO!</dc:title>
</cp:coreProperties>
</file>